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3095625" cy="4384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096000" cy="438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41360" cy="21924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52480" y="-360"/>
            <a:ext cx="1339920" cy="21924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41040" rIns="4104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DIYGo550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165200"/>
            <a:ext cx="1341360" cy="21924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52480" y="4165200"/>
            <a:ext cx="1339920" cy="21924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E33C-1CCF-4A7D-9A42-FEDDC8C43426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52A9-4690-4358-99FC-C5B300BDF4EC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게시판에서 조회수와 댓글은 원글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ositive feedback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주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증폭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역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관심을 받을수록 더욱더 관심을 받는 구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CD46-CA0B-40E8-89E8-FDA83CC2CF80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9D4D-D4D6-49FC-84AB-6DBAB37B6429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댓글만으로는 전체 국민의 의사가 반영되지 못함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과격하고 감정적인 댓글들이 주류를 이룸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사실 인터넷상의 토론은 매우 감정이 많이 소모되는 작업임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논쟁적인 글을 쓰고 나면 두근두근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대세에 반하는 입장을 주장하기 위해서는 엄청난 감심장을 소유해야 함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예를 들면 진중권처럼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 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많은 언론사 사이트에서 댓글들은 관리되지 않은 채 방치된 경우 많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2DB7-74AB-4D4A-A15E-65638F6ADEA7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상품을 어떻게 고르느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브랜드 매우 중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미 쌓은 명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24DE-2A28-40C2-9101-D0C7DE1CACC2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모든 사람이 와서 볼 필요는 없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누군가 와서 보고 문제를 공론화할 수 있다는 것만으로도 그 소임 다하는 것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실제로 시민단체들이 이러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감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”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역할을 하곤 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1246-875E-4C81-A3F7-DF3295A9AE85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9A4F-0F45-4C15-B60C-CBF025E05756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검색기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포털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SNS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는 어떤 면에서 사람과 글을 연결하는 경쟁을 하고 있다고 할 수 있음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자신들의 이야기를 들려주기 위한 경쟁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사람들의 목소리를 듣기 위한 경쟁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포털은 블로그와 카페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토론방들을 쉽게 개설하여 사람들이 자신들의 목소리를 쉽게 낼 수 있도록 도와주고 좋아할 만한 글을 메인에 띄워 그에 접근할 수 있도록 도와줌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물론 그러한 선택은 포털이 하는 것임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한편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SNS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는 사람들이 쉽게 쉽게 말을 내뱉을 수 있도록 편안한 분위기를 조성하고 주변 친구나 유명인들의 말을 전달받을 수 있게 해줌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특히 리트윗이나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좋아요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를 통해 인기있는 뉴스나 주장이 쉽게 전달되도록 해줌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어느쪽이 좋다고는 말하기 어려움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장단점이 있음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6AC5-67AC-4AE8-9848-ECC8D9BBA341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주민번호와 같은 어마어마한 개인정보를 관리할 자신이 없는 어떤 사이트는 그에 반대하여 댓글을 폐지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대신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N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와 트랙백을 통해 피드백을 받기로 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실 본인 확인이 거의 되는 사이트에서 이루어지는 토론에서도 감정은 상하기 마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B721-0FAA-4361-A317-2D0E0EBBFB51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댓글이 가장 대표적이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추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반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댓글의 댓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포인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. SNS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역시도 참여의 진입 장벽을 낮추는 데 기여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적인 영역과 공적인 영역을 애매하게 만들어버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러나 그것이 토론에 기여하는지는 미지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F5FF-753A-4C31-8527-B620224206B9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30B6-EE55-4D00-BEC1-6852818952F6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평범한 개인이 기성 매체에 의존하지 않고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원리적으로는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수많은 사람들에게 전파할 수 있고 의견을 들을 수 있음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.(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탈중심성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개방성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쌍방향성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정부나 정치조직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언론사들도 수많은 사람으로부터 즉각적인 피드백을 받을 수 있음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.(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쌍방향성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만약 적절한 사이버 공간이 마련된다면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수많은 사람들이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계급장 떼고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평등하게 토론을 할 수 있음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.(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쌍방향성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탈중심성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개방성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인터넷에 개방해두었다면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원하는 누구나 정보를 열람할 수 있음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정보 격차의 해소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및 정치 및 행정의 투명성 높아짐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A8FB-DD39-427C-8FCE-4B4350A8BAE5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1D18-CB5C-4BAC-8121-3100B78D8350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기존 대중매체에서 노동조합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진보정당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등의 목소리는 잘 대변되지 않음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기존 매체에서 보도자료를 안 받아적거나 취재를 안해주면 그만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이들의 주된 미디어는 유인물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신문 방송 대 유인물의 싸움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기관지는 한정된 유통망과 높은 비용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사회적 의사결정에서 자신들의 입장이 잘 반영되지 못하는 데에는 부실한 미디어 탓이 있다고 생각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당시 생겨나고 있던 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PC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통신과 그 다음엔 인터넷에서 가능성을 찾음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그곳에서는 매우 저렴한 비용으로도 수많은 사람들에게 자신들의 목소리를 전달할 수 있게 되었음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그 대표적인 곳이 진보네트워크로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처음에는 나우누리같은 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PC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통신 서버를 구축했다가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나중에는 진보 포털 사이트 역할을 하는 한편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각종 운동가와 운동 단체들의 웹호스팅 서비스와 메일링 리스트를 제공해주는 등 그들의 인터넷 활동을 도왔다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400" spc="-1" strike="noStrike">
                <a:solidFill>
                  <a:srgbClr val="000000"/>
                </a:solidFill>
                <a:latin typeface="맑은 고딕"/>
              </a:rPr>
              <a:t>진보네트워크는 서버 로그기록에 </a:t>
            </a:r>
            <a:r>
              <a:rPr b="0" lang="en-US" sz="400" spc="-1" strike="noStrike">
                <a:solidFill>
                  <a:srgbClr val="000000"/>
                </a:solidFill>
                <a:latin typeface="맑은 고딕"/>
              </a:rPr>
              <a:t>IP</a:t>
            </a:r>
            <a:r>
              <a:rPr b="0" lang="ko-KR" sz="400" spc="-1" strike="noStrike">
                <a:solidFill>
                  <a:srgbClr val="000000"/>
                </a:solidFill>
                <a:latin typeface="맑은 고딕"/>
              </a:rPr>
              <a:t>주소를 남기지 않으며</a:t>
            </a:r>
            <a:r>
              <a:rPr b="0" lang="en-US" sz="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400" spc="-1" strike="noStrike">
                <a:solidFill>
                  <a:srgbClr val="000000"/>
                </a:solidFill>
                <a:latin typeface="맑은 고딕"/>
              </a:rPr>
              <a:t>정보통신윤리위원회의 게시물 삭제 요청이나 수사기관의 개인정보 요청에도 응하지 않았다</a:t>
            </a:r>
            <a:r>
              <a:rPr b="0" lang="en-US" sz="4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400" spc="-1" strike="noStrike">
                <a:solidFill>
                  <a:srgbClr val="000000"/>
                </a:solidFill>
                <a:latin typeface="맑은 고딕"/>
              </a:rPr>
              <a:t>이는 특히 보안을 요구하는 사회운동 단체들이 진보네트워크를 이용하는 중요한 이유가 되었다</a:t>
            </a:r>
            <a:r>
              <a:rPr b="0" lang="en-US" sz="4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2001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년 대우차 파업 당시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제도 언론이 빠져나간 현장을 지키고 있었던 것은 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2001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대우차 총파업 투쟁 영상중계단과 진보넷의 참세상 방송국이었다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그들의 비디오는 참세상 방송국을 통해 인터넷에 확산되어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맑은 고딕"/>
              </a:rPr>
              <a:t>큰 반향을 일으켰다</a:t>
            </a:r>
            <a:r>
              <a:rPr b="0" lang="en-US" sz="7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BFA4-CCE7-4E8D-81E2-B4A46FD9DA6A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집단이 아닌 개인들이 의견을 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꼭 정치 블로그만 있는 것은 아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수많은 정보 공유 블로그가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336E-4A67-4221-83B2-4B4B348780E3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미디어의 홍수 속에서 각자의 목소리를 듣게끔 사람들을 끌어들이는 것은 또 다른 과제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사실 운동단체들의 홈페이지는 이런 면에서 상당부분 실패했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관계자 외에는 그 사이트를 둘러보지 않았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오히려 몇몇 개인 블로그들과 인터넷 언론이 성공을 거둠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(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재미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!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새로움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!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을 줄 수 있어야 했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사실 과거 라디오도 개인 방송을 할 수 있었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처음엔 서로의 방송을 들어주며 확산되었지만 점차 사그러들고 몇 개의 거대 방송국으로 집중됨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6593-6657-4CB3-A20F-5CE8D08D197A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영국 총리실 홈페이지인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number10.gov.uk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서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sk the PM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메뉴를 통해 동영상으로 총리에게 질문하고 답을 든는 코너도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2306-9E2A-4BE1-B933-878BB36FF09B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장 많이 본 법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기 법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최신 법안 등의 정보가 공개되어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민이 발의한 법안과 국회의원이 발의한 법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정부가 발의한 법안이 한 곳에 모여 시민의 심판을 받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선택된 법안이 채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?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DD70-B5FF-4840-8F7B-320DA0BF19A6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국의 경우 포털 토론방과 언론사 기사의 댓글과 토론방이 많은 이슈가 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5287-1A7E-40EA-848E-A6F10CADCF4E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450720" y="328680"/>
            <a:ext cx="2192400" cy="16444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9240" y="2082600"/>
            <a:ext cx="2475000" cy="19746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20520" bIns="20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미네르바의 경우 학력이 쉽게 노출되는 오프라인에서였다면 쉽게 인정받기 어려웠을 것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론 오프라인에서도 불가능했던 것은 아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터넷의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준익명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매우 큰 역할을 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1" name="슬라이드 번호 개체 틀 3"/>
          <p:cNvSpPr/>
          <p:nvPr/>
        </p:nvSpPr>
        <p:spPr>
          <a:xfrm>
            <a:off x="1752480" y="4165560"/>
            <a:ext cx="133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20520" bIns="20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797B-D401-47B3-809A-80CAB646F40D}" type="slidenum">
              <a:rPr b="0" lang="ko-KR" sz="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D761-E3A9-4FD1-8BB8-A3AD852F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121D-F418-4A4E-8930-2FA788BA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12F9-06DC-4F6D-A1FB-1E0D16E7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69FF-C1B8-4CFF-8485-BC8260DF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5DE6-D814-4C96-A772-B2FAC237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4E75-8969-4DA6-B64A-6035297D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5A9A-61CF-4F8C-87EC-F195DA83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2FFA-A8E3-44AD-BD17-FEA9DD6C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8AA2-E2AE-4D60-98EC-E2E71439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51B-CCA4-49FB-A124-C9870B7E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91B0-E24E-4896-9CA4-ACE96D81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8794-5391-44A7-B341-1AB725A8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DIYGo550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F64A-F223-4497-97B9-7CA7D5229824}" type="slidenum">
              <a:rPr b="0" lang="ko-KR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인터넷은 새로운 </a:t>
            </a:r>
            <a:br>
              <a:rPr sz="4000"/>
            </a:b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민주주의를 만들었는가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2160" y="4005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2011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년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11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월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30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일 정동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익명의 피드백과 영향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인터넷상의 모든 게시물에 대한 반응은 댓글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등을 통해 즉각적으로 확인되며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그 피드백은 원글작성자뿐 아니라 다른 사람에게까지 자연발생적인 영향을 주게 됨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2002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년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ID ‘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앙마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’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의 제안에 의한 춧불시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2004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년 폭설 당시 고속도로 고립 피해자들의 소송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–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폭설 관련 뉴스 아래 달린 댓글에서 시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계급장이 있으면 더 좋긴 함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현실에서의 유명인은 인터넷상에서도 유명인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다른 사람보다 발언의 영향력이 훨씬 큼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그럼에도 인터넷상의 유명세와 현실에서의 유명세는 일치하지 않음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 ‘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선대인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‘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고재열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‘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박경철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’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등은 현실에서보다 인터넷상에서 자신들의 전문성을 바탕으로 인기를 얻은 경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댓글을 생산하는 사람들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네이버 뉴스 이용자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: 120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댓글 작성자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: 3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만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(2.5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천명이 전체 댓글의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50%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생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750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명이 전체 댓글의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25%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생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ko-KR" sz="3000" spc="-1" strike="noStrike">
                <a:solidFill>
                  <a:srgbClr val="c00000"/>
                </a:solidFill>
                <a:latin typeface="Arial"/>
              </a:rPr>
              <a:t>악성 댓글과 스패머들의 양산</a:t>
            </a: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(2006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년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월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25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일 네이버 뉴스의 댓글 분석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선택의 문제 재등장 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모든 사람의 글을 봐줄 수는 없기 때문에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신뢰할 만한 글을 골라 읽는 테크닉 중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높은 조회수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높은 댓글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지인의 추천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언론이나 포털의 인용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과거에 좋은 글을 썼던 사람의 글 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4. </a:t>
            </a: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누구에게나 열려 있는 투명한 정보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rcRect l="0" t="3581" r="2923" b="4907"/>
          <a:stretch/>
        </p:blipFill>
        <p:spPr>
          <a:xfrm>
            <a:off x="755640" y="1844640"/>
            <a:ext cx="756144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279000"/>
            <a:ext cx="7772400" cy="322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한계지점들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선택적 읽기 도구의 역설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즐겨찾기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뉴스피드 수집기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SNS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등은 모두</a:t>
            </a:r>
            <a:br>
              <a:rPr sz="3000"/>
            </a:b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사람들의 선택적 읽기를 수월하게 해주는 도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포털과 같은 곳이 골라놓은 것을 보는 것보다</a:t>
            </a:r>
            <a:br>
              <a:rPr sz="3000"/>
            </a:b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훨씬 능동적으로 다양한 것을 찾아볼 수 있지만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이는 자신이 좋아하는 것만 보게 해줌으로써</a:t>
            </a:r>
            <a:br>
              <a:rPr sz="3000"/>
            </a:b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대립적인 집단의 입장을 더욱 강화시켜주기도 함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좋은 토론이 이루어지기 위해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악성 댓글 없애기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실명제를 통해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rcRect l="0" t="10212" r="30240" b="0"/>
          <a:stretch/>
        </p:blipFill>
        <p:spPr>
          <a:xfrm>
            <a:off x="826920" y="2395440"/>
            <a:ext cx="622944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활발한 토론과 의견수렴의 조건들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게시판 관리자 이상의 적극적인 조정자 필수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참여의 진입 장벽 낮추는 사이트 설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정부 사이트라면 공식적인 채택과 피드백 필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근본적인 문제 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: </a:t>
            </a: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합의의 어려움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인터넷을 통해 과거보다 목소리는 다양해지고 많아졌지만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그것이 합의를 보장해주진 않음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합의의 문제는 인터넷이란 기술과 거의 무관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인터넷 통신의 기술적 특징과 가능성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탈중심성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쌍방향성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개방성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평등성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익명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시공간적 제약으로부터 자유로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소외된 개인 및 집단의 대안 미디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정부와 정당 및 기존 언론의 피드백 창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계급장 뗀 多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: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多 토론 마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누구에게나 열려 있는 투명한 정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읽을거리와 질문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홍성욱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“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벤담의 파놉티콘에서 전자 시놉티콘까지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감시와 역감시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그 열림과 닫힘의 변증법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파놉티콘의 아이디어는 어디에서 왔을까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공장과 감옥에서 이루어지는 감시의 공통점과 차이점은 무엇인가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현대 정보 사회와 파놉티콘의 공통점과 차이점은 무엇인가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1. </a:t>
            </a: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소외된 집단의 대안 미디어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rcRect l="14391" t="23473" r="59772" b="55308"/>
          <a:stretch/>
        </p:blipFill>
        <p:spPr>
          <a:xfrm>
            <a:off x="684360" y="2060640"/>
            <a:ext cx="2519280" cy="1152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http://ojsimg.ohmynews.com/images/ohmynews.gif"/>
          <p:cNvPicPr/>
          <p:nvPr/>
        </p:nvPicPr>
        <p:blipFill>
          <a:blip r:embed="rId2"/>
          <a:stretch/>
        </p:blipFill>
        <p:spPr>
          <a:xfrm>
            <a:off x="755640" y="3429000"/>
            <a:ext cx="5338800" cy="936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http://www.vop.co.kr/templates/images_201107/logo.jpg"/>
          <p:cNvPicPr/>
          <p:nvPr/>
        </p:nvPicPr>
        <p:blipFill>
          <a:blip r:embed="rId3"/>
          <a:stretch/>
        </p:blipFill>
        <p:spPr>
          <a:xfrm>
            <a:off x="6804000" y="3860640"/>
            <a:ext cx="1752480" cy="390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메인으로"/>
          <p:cNvPicPr/>
          <p:nvPr/>
        </p:nvPicPr>
        <p:blipFill>
          <a:blip r:embed="rId4"/>
          <a:stretch/>
        </p:blipFill>
        <p:spPr>
          <a:xfrm>
            <a:off x="1116000" y="4653000"/>
            <a:ext cx="3114720" cy="780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logo"/>
          <p:cNvPicPr/>
          <p:nvPr/>
        </p:nvPicPr>
        <p:blipFill>
          <a:blip r:embed="rId5"/>
          <a:stretch/>
        </p:blipFill>
        <p:spPr>
          <a:xfrm>
            <a:off x="4716360" y="4797360"/>
            <a:ext cx="3829320" cy="57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한국장애인단체총연맹"/>
          <p:cNvPicPr/>
          <p:nvPr/>
        </p:nvPicPr>
        <p:blipFill>
          <a:blip r:embed="rId6"/>
          <a:stretch/>
        </p:blipFill>
        <p:spPr>
          <a:xfrm>
            <a:off x="4643280" y="5805360"/>
            <a:ext cx="3611880" cy="549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http://kscrc.org/renew/img/logo.JPG"/>
          <p:cNvPicPr/>
          <p:nvPr/>
        </p:nvPicPr>
        <p:blipFill>
          <a:blip r:embed="rId7"/>
          <a:stretch/>
        </p:blipFill>
        <p:spPr>
          <a:xfrm>
            <a:off x="826920" y="5805360"/>
            <a:ext cx="3591000" cy="771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"/>
          <p:cNvPicPr/>
          <p:nvPr/>
        </p:nvPicPr>
        <p:blipFill>
          <a:blip r:embed="rId8"/>
          <a:srcRect l="40232" t="11538" r="42790" b="76533"/>
          <a:stretch/>
        </p:blipFill>
        <p:spPr>
          <a:xfrm>
            <a:off x="3492360" y="2276640"/>
            <a:ext cx="1656000" cy="64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대우자동차 조합원에 대한 폭력 동영상"/>
          <p:cNvPicPr/>
          <p:nvPr/>
        </p:nvPicPr>
        <p:blipFill>
          <a:blip r:embed="rId9"/>
          <a:stretch/>
        </p:blipFill>
        <p:spPr>
          <a:xfrm>
            <a:off x="5580000" y="170028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1</a:t>
            </a: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인 미디어 블로그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rcRect l="31373" t="11538" r="39837" b="73881"/>
          <a:stretch/>
        </p:blipFill>
        <p:spPr>
          <a:xfrm>
            <a:off x="1187280" y="2205000"/>
            <a:ext cx="2808360" cy="792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rcRect l="0" t="10212" r="64031" b="63265"/>
          <a:stretch/>
        </p:blipFill>
        <p:spPr>
          <a:xfrm>
            <a:off x="4284720" y="2852640"/>
            <a:ext cx="3508200" cy="144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rcRect l="28893" t="15516" r="27505" b="53982"/>
          <a:stretch/>
        </p:blipFill>
        <p:spPr>
          <a:xfrm>
            <a:off x="3059280" y="4653000"/>
            <a:ext cx="316836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역설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무한한 접근성과 엄청난 다양성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v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각각의 미디어에 접속하는 것은 개개인의 </a:t>
            </a:r>
            <a:r>
              <a:rPr b="1" lang="ko-KR" sz="3000" spc="-1" strike="noStrike">
                <a:solidFill>
                  <a:srgbClr val="c00000"/>
                </a:solidFill>
                <a:latin typeface="Arial"/>
              </a:rPr>
              <a:t>선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Arial"/>
              </a:rPr>
              <a:t>접근 방법의 다양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직접접속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검색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기성언론 및 포털에서의 인용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</a:t>
            </a:r>
            <a:br>
              <a:rPr sz="3000"/>
            </a:b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지인 네트워크나 커뮤니티에서의 펌질과 링크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br>
              <a:rPr sz="3000"/>
            </a:b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뉴스피드 수집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2. </a:t>
            </a: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시민들의 목소리를 직접 듣는 정부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rcRect l="16606" t="14190" r="17687" b="0"/>
          <a:stretch/>
        </p:blipFill>
        <p:spPr>
          <a:xfrm>
            <a:off x="1042920" y="1844640"/>
            <a:ext cx="640872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OpenCongress.org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rcRect l="0" t="4907" r="0" b="0"/>
          <a:stretch/>
        </p:blipFill>
        <p:spPr>
          <a:xfrm>
            <a:off x="684360" y="1844640"/>
            <a:ext cx="752292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3. </a:t>
            </a: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계급장 뗀 多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:</a:t>
            </a: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多 토론 마당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rcRect l="0" t="10212" r="28590" b="0"/>
          <a:stretch/>
        </p:blipFill>
        <p:spPr>
          <a:xfrm>
            <a:off x="826920" y="1700280"/>
            <a:ext cx="6966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계급장보다 조회수와 댓글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조회수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댓글 및 펌질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링크에 의해 평판이 결정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누구나 글만 잘 쓰면 다른 사람들에게 인정받고 다수에게 영향을 줄 수 있음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2008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년 미디어다음 아고라의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ID ‘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미네르바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04:47:35Z</dcterms:created>
  <dc:creator>zolaist</dc:creator>
  <dc:description/>
  <dc:language>en-US</dc:language>
  <cp:lastModifiedBy>zolaist</cp:lastModifiedBy>
  <dcterms:modified xsi:type="dcterms:W3CDTF">2011-11-29T11:10:32Z</dcterms:modified>
  <cp:revision>24</cp:revision>
  <dc:subject/>
  <dc:title>컴퓨터는 어떻게  덧셈, 뺄셈을 할까?</dc:title>
</cp:coreProperties>
</file>